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74-A94F-4F9B-B597-F2D58386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10F-8A41-49C4-B243-5EEF1E68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109AD-7CD4-432F-8611-0863825E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70E6-6EB2-4775-BE24-82008B8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B69F-127A-4D76-99BB-0AA185C3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42B08-DEDE-44A4-9D3F-11CD300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B1357-EA60-43CE-BF27-A3BCC96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BD6E-22AF-4746-8E72-7C33C498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7CD61-6C18-4BC4-9EE5-F37EA84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438C5-1616-463C-92B6-15849B7C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022B0-704E-42F3-9036-04D4AC0F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ACD-69FC-4456-B87B-ED010445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889-A23C-42A6-BE43-BACE0E27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FBAF7-0E62-4E82-9558-5C3034EB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A89F7-B9A8-4BC1-A871-62D0E69B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049A4-B4F3-4BEC-B734-EB8C36FF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D70B-959C-4A80-83D5-3664BD8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79172-6880-4724-948D-137B830F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48129-CCF9-4B9D-8270-322353F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4C60D-2805-48B5-B2E5-94D6B15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F9B-9826-4266-A495-0972A39D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C4827-A07C-484B-931B-044C8A7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DA3E9-8F44-475F-A0D8-5556C124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F8FE-2342-42F4-B910-939B4E69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14616-64AE-4EFB-A7D9-27E3BE41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7187-4F78-42A2-93D1-44C8420E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9960-A654-4041-B4B0-439338E5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9E90-D28F-4469-B75A-921B45B2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14C4-E394-46E4-BA3F-ED1929C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8C0C-EA97-4B7D-835C-74B4A1A2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DB15-2633-474E-B439-B73CEDB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C86-A9BC-45F1-977D-86C8106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B032-F61F-4175-842F-A52F5649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F791-8A6D-4BEA-8C64-1C0EA0F5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AB34-D065-4A16-9759-8B6306F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89C4-87BB-428C-8B91-E427FDA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E8CD-9E85-45D1-A1E9-A666BF6B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01C2-5315-4AFE-ABBF-B84BA3FA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A708-5E46-4BD0-A73F-7A9471F8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058A-1B10-4715-A220-9287FC8D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2DB4-4F0F-4AA0-8246-6C007D3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25BF-1ABB-4247-8F34-883B71A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0D5-891A-44B5-B55B-3F6473F2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6F80-D803-4409-B80B-766AAC1D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AA40-F12B-45EF-9B11-86D99BBB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6A9D-D9D7-4F62-9E8A-359D047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6CCF-AD85-4AB1-AA76-A412AD2B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9DAB-2AEB-4020-A54E-6B73E65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14B9-4E51-416E-8FE0-BFF3591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EF69-9BA6-464A-A9BC-706F4A22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787D-0724-4C9B-B7D5-E305DF99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494F-E4A6-4981-9B32-C88AC737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D747B-18BD-42C3-A8B3-DD560E0C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72E-E5F5-4A17-81E5-56E8179A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6B782-B7EB-44E2-A6E9-73E37D0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039FD-490A-4BEF-B3D4-B2DF9E4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031E1-D6CE-4EAD-A3F6-A7DDC4CF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B09D4-DA08-41A1-BE2A-89D2E7F3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0A9DA-CA55-4EA9-B281-93BABCF8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14882-5AE3-48A0-8B91-311C0CC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5A5AA-8FA6-49A3-872A-90E630F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F8F71-9ACC-49EC-A933-29A8427C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6B702-8B98-423D-AED3-640AB780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ACEA0-986D-4732-9EC2-C6873D58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FDA-644A-439F-A608-C819AB8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C5DA3-B042-4E65-A04F-6CF5442D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416D-0C56-484D-AD74-50DF4F19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E186-D388-49FB-AA3D-B04B92A8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A802-0678-475F-A789-DB504301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4B24-9D59-45D2-963D-9B986173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3A77-1B1C-4BD6-95DB-F72817BA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C16F-946F-4E7A-9C13-B1D4FB77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6771-9108-4771-9E13-08C321E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7BA9-F3DE-451D-8CE3-F55D9736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D8AF-629B-483E-B459-F108636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972-80DE-4588-A85A-84961D4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5338-E8A6-439A-BD56-E98EE5EE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17271-262D-4428-9150-7D28E90F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4D29-28B1-4D66-99F8-2722B1F4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269D-2DF8-4BAC-A841-CDEE15FD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C8FFB-6FB6-4BD6-B9BC-C014E88D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E73C-588F-49F2-AF64-A84E685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0132-E321-4D5D-93F1-B51F56A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222DF-C343-4AD7-8255-CD4118A3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9B4B-AD4E-430F-AE4A-7EE9B083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A375-00C3-4579-AB2B-1EBA5A8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27E-BF4A-4514-9EB3-EDAE2A8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0DA7-03A4-4E50-B8C6-DAFB8C0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33236-0A5D-4DC7-9B48-3C0725B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2A1DF-B6B0-40BD-9DD7-F2986F2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D041B-1FEE-4C40-A6B5-87EDCC67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2BE5-C468-42A4-AB76-E876ADF8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771DD-51C8-414C-A25C-C1C94509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BA2B-B6E2-40F6-ABDA-D93C97D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8CF29-FC5C-4EDD-86B3-5F43B1F2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050CD-24A9-474F-A09A-0790FEAD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7D2B-07FC-4C96-98B1-4B12D16C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0CB-363F-4283-A5FB-6B42636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1E2E2-4940-404F-A266-26F6E00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BD06-3629-4E66-A55E-9D61013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7936-906F-4A72-98FE-58AF499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66DAF-55B5-4CA9-9F20-A7171FB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36F05-B032-490E-9C35-D14D470D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10E30-3698-431F-9AF6-B2D67688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9348C-47B5-43D4-90A2-5194A625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052E-69BB-448A-BBA3-3E867EDD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FF066-BD22-4B18-A8BE-A7E13CFE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17955-DCE8-4416-AC50-4264BE4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440B-429C-46C7-A335-B59FC0B64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9FE-BE00-4975-808A-6033D6A328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139-173B-4DEE-A4A5-EA31475BEE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E92-0D7D-4D13-A417-070F029635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BB6-E6A8-4301-84F5-E95ED27A2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8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9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B84-2FC3-498B-9C67-D2BD29504CB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979-6F5E-457C-80E4-AC9CC4EB08C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D817-988B-439C-A874-3409A419E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19F-AEE9-4187-A860-46A77A554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s Comida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Kitzia Dia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209680" cy="14702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2514600" cy="16840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48120" y="39625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920" y="380988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oc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24480" y="3809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672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043000" cy="183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2286000" cy="15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2819520" y="43434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6172200" y="4191120"/>
            <a:ext cx="136836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Almuerz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" y="3429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ocadillo de mantequilla de manti y ja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3434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o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288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624852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5"/>
          <a:stretch/>
        </p:blipFill>
        <p:spPr>
          <a:xfrm>
            <a:off x="4191120" y="4191120"/>
            <a:ext cx="244764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ra La Cen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533520" y="3505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s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2895480" y="1828800"/>
            <a:ext cx="2838600" cy="160956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200400" y="3429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uré de p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4"/>
          <a:stretch/>
        </p:blipFill>
        <p:spPr>
          <a:xfrm>
            <a:off x="6095880" y="18288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678168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2057400" y="61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1055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s macar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4724280" y="4241880"/>
            <a:ext cx="2743200" cy="1825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68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68" fill="hold"/>
                                        <p:tgtEl>
                                          <p:spTgt spid="7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68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68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ost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el postre me gusta com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52280" y="3657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tel de vain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666880" y="1981080"/>
            <a:ext cx="1752840" cy="17528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514600" y="3733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 de vaini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2286000" cy="17128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1814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udín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4"/>
          <a:stretch/>
        </p:blipFill>
        <p:spPr>
          <a:xfrm>
            <a:off x="1066680" y="4038480"/>
            <a:ext cx="2124360" cy="21528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1066680" y="6172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choco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057400" cy="19526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52578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ba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eriend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la merienda me gusta co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057400" cy="1347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572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a de gran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327672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5943600" y="2209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6248520" y="3886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1904760" cy="1743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286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fritas de pa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2210040" cy="15652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3048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galletas sal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15:45Z</dcterms:created>
  <dc:creator>diazkit</dc:creator>
  <dc:description/>
  <dc:language>en-US</dc:language>
  <cp:lastModifiedBy>diazkit</cp:lastModifiedBy>
  <dcterms:modified xsi:type="dcterms:W3CDTF">2011-04-14T18:32:31Z</dcterms:modified>
  <cp:revision>4</cp:revision>
  <dc:subject/>
  <dc:title>Las Comidas</dc:title>
</cp:coreProperties>
</file>